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98C-9B07-4534-9517-0735D702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7A5-2E8E-41B6-AD91-49503425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C42-2734-40FF-9DEF-57184F66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D84-7934-4957-8AC0-C6E3EA22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AE6-E370-4210-987F-D3C2FD5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55F-81D4-484F-8EA1-B8E7611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57B-E01C-4037-9655-4E93541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363-249F-463B-8A66-54566C8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6E7-004A-47D7-A0F0-097D702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CF7-D0C6-4D0A-82D6-EB87A63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1A6-AC10-494E-8CD2-54B84FD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0DC-8500-4AC1-B884-7D15277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B1CF-78D1-42E1-875B-2116A6DD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eti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e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nds of Po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building 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lf a blo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 sit up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shad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ing to the s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mmers pounding in n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ck thack thack th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n I hear bi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ack thack th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little love is not so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very littl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waiting on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s born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s born to hustle roses dow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nues of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skey on your brea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make a small boy dizzy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hung on like deat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waltzing was not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! Oh, homework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te you! You stink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wash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y in the s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Repetition, rhythm, rhyme, consonance, and light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nomatopoeia, consonance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light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, rhyme, rhy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word’s pronunciation imitates its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n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e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ro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ing a word or words for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it out her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e, all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, but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it out her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ords are arranged in such a way that they make a pattern or 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once was a girl from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yed her hair pink in the bath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making a pizza the size of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 the words instead of say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ords have the same end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the beginning, end, or middle of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first sounds in word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ed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l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k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e.  W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ot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eat in the middle or end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we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meti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ther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 n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S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l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, ble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 now!  With fie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pr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put some lines of poetry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ich techniques ar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iteration, consonance, rhythm, rhyme, and onomatopoe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ems use more than one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uckoo in our cuckoo c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wedded to an octop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laid a single wooden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hatched a cuckoocloctop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48:48Z</dcterms:created>
  <dc:creator>D</dc:creator>
  <dc:description/>
  <dc:language>en-US</dc:language>
  <cp:lastModifiedBy>Computer Tech</cp:lastModifiedBy>
  <dcterms:modified xsi:type="dcterms:W3CDTF">2013-01-21T17:44:53Z</dcterms:modified>
  <cp:revision>7</cp:revision>
  <dc:subject/>
  <dc:title>poetic devices lesson</dc:title>
</cp:coreProperties>
</file>